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31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8.png" ContentType="image/png"/>
  <Override PartName="/ppt/media/image1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3"/>
          </p:nvPr>
        </p:nvSpPr>
        <p:spPr>
          <a:xfrm>
            <a:off x="401760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4"/>
          </p:nvPr>
        </p:nvSpPr>
        <p:spPr>
          <a:xfrm>
            <a:off x="-3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hhh - TITRE - D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5"/>
          </p:nvPr>
        </p:nvSpPr>
        <p:spPr>
          <a:xfrm>
            <a:off x="401760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FC6D3-27F7-4C62-B5AF-CFAE1A93936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45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D8B3E-FD2B-4C35-86A1-280B77B765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es commentaires 5"/>
          <p:cNvSpPr/>
          <p:nvPr/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81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D867A-FAC5-4148-8B69-5A0972E369F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es commentaires 6"/>
          <p:cNvSpPr/>
          <p:nvPr/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85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B0757-0A1A-4FDA-B666-E5826FC3D77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Espace réservé des commentaires 6"/>
          <p:cNvSpPr/>
          <p:nvPr/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89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A3E64-8556-4ECE-AC89-BB04DFAA70D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space réservé des commentaires 6"/>
          <p:cNvSpPr/>
          <p:nvPr/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49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CCB57-D125-45D3-BEA5-8983DAD41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es commentaires 6"/>
          <p:cNvSpPr/>
          <p:nvPr/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53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8F243-7E1F-4916-B249-72CBDEEE1BD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es commentaires 6"/>
          <p:cNvSpPr/>
          <p:nvPr/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781B2-2C4F-49DE-B60C-F4084F99514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BF574-B9D5-488F-9DE6-0C260CB5A1E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CDA99-FA62-49C0-9686-B3CFFA43996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8FE41-2B00-4873-9597-96E762EC17A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119BE-AD6B-42E8-9B70-E6C0686DDA6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u numéro de diapositive 4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E083A-7CC9-4C50-BE29-64D36EB9029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pied de page 3"/>
          <p:cNvSpPr/>
          <p:nvPr/>
        </p:nvSpPr>
        <p:spPr>
          <a:xfrm>
            <a:off x="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September  2014 – Workshop FP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BB7A-D321-4D15-B744-FA2FE0196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0915-ECA8-47DD-B2CD-86CDEA1E7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6D58-ABB0-4B1B-B244-1F87CCA4D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FDDD-1F81-4CAF-A3F4-592DE98BA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0143-C811-48CD-AAC1-7F3DDCB8D0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CADB-FBBC-4309-9BE6-D831816A4C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6F66-AB14-4B19-A76C-E4346B7306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6BA6-0B81-43FA-AF6A-D13292A600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87B8-43CA-4644-9754-0FE7BC7C97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A233-E586-4E10-BF56-794C744C3D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C8B4-CA47-40CD-B7A6-B296FAF59F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4A0F-1760-4121-B4F3-C893BC9A7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A385-EA11-4C9A-9F05-9E5D3BCD44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11FD-D771-4DE9-9CD4-5D822E01CE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4363-31DB-4174-BB5C-895E1A5F5E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EE2A-E0D8-48A6-8E70-48EBA160A0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FDB9-0DCB-4DED-973B-42F810429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B1E9-4415-4A2B-BBF2-7DDD7EC7C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8635-FE36-4ABE-BD3B-5AC0792B2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2131-66F2-4E08-B4A3-DD934C6BD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F2A3-D6E5-4A9A-931D-F7BC5015C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096B-91E1-409D-8161-D98D5EB16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FA3F-B777-4151-998C-348A0E03E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2BAB-54CA-440A-9235-7B4E8D05D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14400" y="466560"/>
            <a:ext cx="10055160" cy="709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66260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CA8C01-E391-4B7B-B3C6-91E6946A70F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14400" y="1440"/>
            <a:ext cx="10061640" cy="466920"/>
          </a:xfrm>
          <a:prstGeom prst="rect">
            <a:avLst/>
          </a:prstGeom>
          <a:ln w="0">
            <a:noFill/>
          </a:ln>
        </p:spPr>
      </p:pic>
      <p:sp>
        <p:nvSpPr>
          <p:cNvPr id="3" name="Parallélogramme 1"/>
          <p:cNvSpPr/>
          <p:nvPr/>
        </p:nvSpPr>
        <p:spPr>
          <a:xfrm flipH="1">
            <a:off x="718560" y="466560"/>
            <a:ext cx="9350280" cy="249480"/>
          </a:xfrm>
          <a:prstGeom prst="parallelogram">
            <a:avLst>
              <a:gd name="adj" fmla="val -8971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rallélogramme 13"/>
          <p:cNvSpPr/>
          <p:nvPr/>
        </p:nvSpPr>
        <p:spPr>
          <a:xfrm flipH="1">
            <a:off x="6985080" y="716040"/>
            <a:ext cx="3084480" cy="92160"/>
          </a:xfrm>
          <a:prstGeom prst="parallelogram">
            <a:avLst>
              <a:gd name="adj" fmla="val 1372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9504360" y="466560"/>
            <a:ext cx="571680" cy="341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arallélogramme 8"/>
          <p:cNvSpPr/>
          <p:nvPr/>
        </p:nvSpPr>
        <p:spPr>
          <a:xfrm>
            <a:off x="14400" y="7121520"/>
            <a:ext cx="9563040" cy="90360"/>
          </a:xfrm>
          <a:prstGeom prst="parallelogram">
            <a:avLst>
              <a:gd name="adj" fmla="val -84926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arallélogramme 11"/>
          <p:cNvSpPr/>
          <p:nvPr/>
        </p:nvSpPr>
        <p:spPr>
          <a:xfrm>
            <a:off x="14400" y="7201080"/>
            <a:ext cx="2592360" cy="179280"/>
          </a:xfrm>
          <a:prstGeom prst="parallelogram">
            <a:avLst>
              <a:gd name="adj" fmla="val 13750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14400" y="7121520"/>
            <a:ext cx="541080" cy="249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space réservé du pied de page 9"/>
          <p:cNvSpPr/>
          <p:nvPr/>
        </p:nvSpPr>
        <p:spPr>
          <a:xfrm>
            <a:off x="71280" y="7147080"/>
            <a:ext cx="22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GB" sz="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 September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Image 2" descr=""/>
          <p:cNvPicPr/>
          <p:nvPr/>
        </p:nvPicPr>
        <p:blipFill>
          <a:blip r:embed="rId4"/>
          <a:stretch/>
        </p:blipFill>
        <p:spPr>
          <a:xfrm>
            <a:off x="7632720" y="0"/>
            <a:ext cx="1712880" cy="5493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6" descr=""/>
          <p:cNvPicPr/>
          <p:nvPr/>
        </p:nvPicPr>
        <p:blipFill>
          <a:blip r:embed="rId5"/>
          <a:stretch/>
        </p:blipFill>
        <p:spPr>
          <a:xfrm>
            <a:off x="677880" y="4680"/>
            <a:ext cx="1193760" cy="46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4400" y="466560"/>
            <a:ext cx="10055160" cy="709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14400" y="1440"/>
            <a:ext cx="10061640" cy="466920"/>
          </a:xfrm>
          <a:prstGeom prst="rect">
            <a:avLst/>
          </a:prstGeom>
          <a:ln w="0">
            <a:noFill/>
          </a:ln>
        </p:spPr>
      </p:pic>
      <p:sp>
        <p:nvSpPr>
          <p:cNvPr id="50" name="Parallélogramme 1"/>
          <p:cNvSpPr/>
          <p:nvPr/>
        </p:nvSpPr>
        <p:spPr>
          <a:xfrm flipH="1">
            <a:off x="718560" y="466560"/>
            <a:ext cx="9350280" cy="249480"/>
          </a:xfrm>
          <a:prstGeom prst="parallelogram">
            <a:avLst>
              <a:gd name="adj" fmla="val -8971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arallélogramme 13"/>
          <p:cNvSpPr/>
          <p:nvPr/>
        </p:nvSpPr>
        <p:spPr>
          <a:xfrm flipH="1">
            <a:off x="6985080" y="716040"/>
            <a:ext cx="3084480" cy="92160"/>
          </a:xfrm>
          <a:prstGeom prst="parallelogram">
            <a:avLst>
              <a:gd name="adj" fmla="val 1372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9504360" y="466560"/>
            <a:ext cx="571680" cy="341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arallélogramme 8"/>
          <p:cNvSpPr/>
          <p:nvPr/>
        </p:nvSpPr>
        <p:spPr>
          <a:xfrm>
            <a:off x="14400" y="7121520"/>
            <a:ext cx="9563040" cy="90360"/>
          </a:xfrm>
          <a:prstGeom prst="parallelogram">
            <a:avLst>
              <a:gd name="adj" fmla="val -84926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arallélogramme 11"/>
          <p:cNvSpPr/>
          <p:nvPr/>
        </p:nvSpPr>
        <p:spPr>
          <a:xfrm>
            <a:off x="14400" y="7201080"/>
            <a:ext cx="2592360" cy="179280"/>
          </a:xfrm>
          <a:prstGeom prst="parallelogram">
            <a:avLst>
              <a:gd name="adj" fmla="val 13750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4400" y="7121520"/>
            <a:ext cx="541080" cy="249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ce réservé du pied de page 9"/>
          <p:cNvSpPr/>
          <p:nvPr/>
        </p:nvSpPr>
        <p:spPr>
          <a:xfrm>
            <a:off x="71280" y="7147080"/>
            <a:ext cx="22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GB" sz="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 September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age 2" descr=""/>
          <p:cNvPicPr/>
          <p:nvPr/>
        </p:nvPicPr>
        <p:blipFill>
          <a:blip r:embed="rId4"/>
          <a:stretch/>
        </p:blipFill>
        <p:spPr>
          <a:xfrm>
            <a:off x="7632720" y="0"/>
            <a:ext cx="1712880" cy="54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5"/>
          <a:stretch/>
        </p:blipFill>
        <p:spPr>
          <a:xfrm>
            <a:off x="677880" y="4680"/>
            <a:ext cx="1193760" cy="461880"/>
          </a:xfrm>
          <a:prstGeom prst="rect">
            <a:avLst/>
          </a:prstGeom>
          <a:ln w="0">
            <a:noFill/>
          </a:ln>
        </p:spPr>
      </p:pic>
      <p:sp>
        <p:nvSpPr>
          <p:cNvPr id="59" name="Connecteur droit 21"/>
          <p:cNvSpPr/>
          <p:nvPr/>
        </p:nvSpPr>
        <p:spPr>
          <a:xfrm>
            <a:off x="71280" y="1165320"/>
            <a:ext cx="6143760" cy="0"/>
          </a:xfrm>
          <a:prstGeom prst="line">
            <a:avLst/>
          </a:prstGeom>
          <a:ln cap="rnd" w="88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Num" idx="2"/>
          </p:nvPr>
        </p:nvSpPr>
        <p:spPr>
          <a:xfrm>
            <a:off x="766260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42120A-4948-477D-BCF5-F240FE4F143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6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C8684-0E46-4483-87B8-12267660371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5364000"/>
            <a:ext cx="7540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33676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Arial"/>
              </a:rPr>
              <a:t>ER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676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Arial"/>
              </a:rPr>
              <a:t>16</a:t>
            </a:r>
            <a:r>
              <a:rPr b="1" lang="en-GB" sz="2000" spc="-1" strike="noStrike" baseline="30000">
                <a:solidFill>
                  <a:srgbClr val="7030a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7030a0"/>
                </a:solidFill>
                <a:latin typeface="Arial"/>
              </a:rPr>
              <a:t> - 18</a:t>
            </a:r>
            <a:r>
              <a:rPr b="1" lang="en-GB" sz="2000" spc="-1" strike="noStrike" baseline="30000">
                <a:solidFill>
                  <a:srgbClr val="7030a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7030a0"/>
                </a:solidFill>
                <a:latin typeface="Arial"/>
              </a:rPr>
              <a:t> September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36720" y="399564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ectangle 15"/>
          <p:cNvGrpSpPr/>
          <p:nvPr/>
        </p:nvGrpSpPr>
        <p:grpSpPr>
          <a:xfrm>
            <a:off x="298440" y="1468440"/>
            <a:ext cx="9478800" cy="2195640"/>
            <a:chOff x="298440" y="1468440"/>
            <a:chExt cx="9478800" cy="2195640"/>
          </a:xfrm>
        </p:grpSpPr>
        <p:pic>
          <p:nvPicPr>
            <p:cNvPr id="108" name="Rectangle 15" descr=""/>
            <p:cNvPicPr/>
            <p:nvPr/>
          </p:nvPicPr>
          <p:blipFill>
            <a:blip r:embed="rId1"/>
            <a:stretch/>
          </p:blipFill>
          <p:spPr>
            <a:xfrm>
              <a:off x="298440" y="1468440"/>
              <a:ext cx="9478800" cy="21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30200" y="1598760"/>
              <a:ext cx="9220320" cy="19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Connecteur droit 21"/>
          <p:cNvSpPr/>
          <p:nvPr/>
        </p:nvSpPr>
        <p:spPr>
          <a:xfrm>
            <a:off x="2808360" y="4643280"/>
            <a:ext cx="4392720" cy="0"/>
          </a:xfrm>
          <a:prstGeom prst="line">
            <a:avLst/>
          </a:prstGeom>
          <a:ln cap="rnd" w="88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ext Box 5" descr=""/>
          <p:cNvPicPr/>
          <p:nvPr/>
        </p:nvPicPr>
        <p:blipFill>
          <a:blip r:embed="rId2"/>
          <a:stretch/>
        </p:blipFill>
        <p:spPr>
          <a:xfrm>
            <a:off x="176040" y="1395360"/>
            <a:ext cx="9730080" cy="2103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936720" y="4710240"/>
            <a:ext cx="820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ANDRINE ZAOUCHE </a:t>
            </a:r>
            <a:r>
              <a:rPr b="0" lang="en-GB" sz="1400" spc="-1" strike="noStrike">
                <a:solidFill>
                  <a:srgbClr val="404040"/>
                </a:solidFill>
                <a:latin typeface="Arial"/>
              </a:rPr>
              <a:t>&amp;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REMI SARR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numéro de diapositive 4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EB155-5F33-4000-896C-4D0F883CC4E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1240" y="755640"/>
            <a:ext cx="742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 / 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6"/>
          <p:cNvSpPr/>
          <p:nvPr/>
        </p:nvSpPr>
        <p:spPr>
          <a:xfrm>
            <a:off x="214200" y="1589040"/>
            <a:ext cx="968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ons for future flight FPG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ree from exportation restri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mber of a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n compatible FPG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ow co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low for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gration of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ard I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modules (SpaceWire, 1553 bus, CAN bus, Ethernet, SP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ier-accumulator bl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 bl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VDS compa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processo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ser friend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velopment tools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esis / placement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 ver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ation (retim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placement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versions for spac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ibraries of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oft I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 modules (filters, EDAC, compressor, PID, F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processo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ckage technology easy to u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QF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7"/>
          <p:cNvSpPr/>
          <p:nvPr/>
        </p:nvSpPr>
        <p:spPr>
          <a:xfrm>
            <a:off x="863640" y="439560"/>
            <a:ext cx="928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1/ Introduction - 2/ EREMS presentation - 3/ Choice of FPGA target - 4/ Prototypes - 5/ Design - 6/ Performance - 7/ Programming - </a:t>
            </a:r>
            <a:r>
              <a:rPr b="1" lang="fr-FR" sz="1100" spc="-1" strike="noStrike">
                <a:solidFill>
                  <a:srgbClr val="ffffff"/>
                </a:solidFill>
                <a:latin typeface="Arial"/>
              </a:rPr>
              <a:t>8/ 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lèche droite 9"/>
          <p:cNvSpPr/>
          <p:nvPr/>
        </p:nvSpPr>
        <p:spPr>
          <a:xfrm>
            <a:off x="1846440" y="3282840"/>
            <a:ext cx="169560" cy="108000"/>
          </a:xfrm>
          <a:prstGeom prst="rightArrow">
            <a:avLst>
              <a:gd name="adj1" fmla="val 50000"/>
              <a:gd name="adj2" fmla="val 49891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èche droite 10"/>
          <p:cNvSpPr/>
          <p:nvPr/>
        </p:nvSpPr>
        <p:spPr>
          <a:xfrm>
            <a:off x="1846440" y="3065400"/>
            <a:ext cx="169560" cy="106560"/>
          </a:xfrm>
          <a:prstGeom prst="rightArrow">
            <a:avLst>
              <a:gd name="adj1" fmla="val 50000"/>
              <a:gd name="adj2" fmla="val 49821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lèche droite 11"/>
          <p:cNvSpPr/>
          <p:nvPr/>
        </p:nvSpPr>
        <p:spPr>
          <a:xfrm>
            <a:off x="1846440" y="395928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lèche droite 12"/>
          <p:cNvSpPr/>
          <p:nvPr/>
        </p:nvSpPr>
        <p:spPr>
          <a:xfrm>
            <a:off x="1846440" y="374508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lèche droite 14"/>
          <p:cNvSpPr/>
          <p:nvPr/>
        </p:nvSpPr>
        <p:spPr>
          <a:xfrm>
            <a:off x="1846440" y="4651200"/>
            <a:ext cx="169560" cy="106560"/>
          </a:xfrm>
          <a:prstGeom prst="rightArrow">
            <a:avLst>
              <a:gd name="adj1" fmla="val 50000"/>
              <a:gd name="adj2" fmla="val 49821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lèche droite 15"/>
          <p:cNvSpPr/>
          <p:nvPr/>
        </p:nvSpPr>
        <p:spPr>
          <a:xfrm>
            <a:off x="1846440" y="601992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lèche droite 16"/>
          <p:cNvSpPr/>
          <p:nvPr/>
        </p:nvSpPr>
        <p:spPr>
          <a:xfrm>
            <a:off x="1846440" y="443556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lèche droite 17"/>
          <p:cNvSpPr/>
          <p:nvPr/>
        </p:nvSpPr>
        <p:spPr>
          <a:xfrm>
            <a:off x="1846440" y="488808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lèche droite 18"/>
          <p:cNvSpPr/>
          <p:nvPr/>
        </p:nvSpPr>
        <p:spPr>
          <a:xfrm>
            <a:off x="1846440" y="5316480"/>
            <a:ext cx="169560" cy="106560"/>
          </a:xfrm>
          <a:prstGeom prst="rightArrow">
            <a:avLst>
              <a:gd name="adj1" fmla="val 50000"/>
              <a:gd name="adj2" fmla="val 49821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lèche droite 19"/>
          <p:cNvSpPr/>
          <p:nvPr/>
        </p:nvSpPr>
        <p:spPr>
          <a:xfrm>
            <a:off x="1846440" y="624528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Image 1" descr=""/>
          <p:cNvPicPr/>
          <p:nvPr/>
        </p:nvPicPr>
        <p:blipFill>
          <a:blip r:embed="rId1"/>
          <a:stretch/>
        </p:blipFill>
        <p:spPr>
          <a:xfrm rot="559200">
            <a:off x="6649920" y="3849840"/>
            <a:ext cx="2678400" cy="165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1" name="Flèche droite 20"/>
          <p:cNvSpPr/>
          <p:nvPr/>
        </p:nvSpPr>
        <p:spPr>
          <a:xfrm>
            <a:off x="1846440" y="349416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èche droite 21"/>
          <p:cNvSpPr/>
          <p:nvPr/>
        </p:nvSpPr>
        <p:spPr>
          <a:xfrm>
            <a:off x="1846440" y="580392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lèche droite 22"/>
          <p:cNvSpPr/>
          <p:nvPr/>
        </p:nvSpPr>
        <p:spPr>
          <a:xfrm>
            <a:off x="1846440" y="510228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numéro de diapositive 6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A64D8-FDE3-46B7-8DA6-810D8EBC680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Rectangle 15"/>
          <p:cNvGrpSpPr/>
          <p:nvPr/>
        </p:nvGrpSpPr>
        <p:grpSpPr>
          <a:xfrm>
            <a:off x="298440" y="1609560"/>
            <a:ext cx="9478800" cy="1200240"/>
            <a:chOff x="298440" y="1609560"/>
            <a:chExt cx="9478800" cy="1200240"/>
          </a:xfrm>
        </p:grpSpPr>
        <p:pic>
          <p:nvPicPr>
            <p:cNvPr id="226" name="Rectangle 15" descr=""/>
            <p:cNvPicPr/>
            <p:nvPr/>
          </p:nvPicPr>
          <p:blipFill>
            <a:blip r:embed="rId1"/>
            <a:stretch/>
          </p:blipFill>
          <p:spPr>
            <a:xfrm>
              <a:off x="298440" y="1609560"/>
              <a:ext cx="947880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80880" y="1692360"/>
              <a:ext cx="931860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Text Box 5" descr=""/>
          <p:cNvPicPr/>
          <p:nvPr/>
        </p:nvPicPr>
        <p:blipFill>
          <a:blip r:embed="rId2"/>
          <a:stretch/>
        </p:blipFill>
        <p:spPr>
          <a:xfrm>
            <a:off x="176040" y="1689120"/>
            <a:ext cx="9730080" cy="10238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10"/>
          <p:cNvSpPr/>
          <p:nvPr/>
        </p:nvSpPr>
        <p:spPr>
          <a:xfrm>
            <a:off x="0" y="4487760"/>
            <a:ext cx="100807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Mr. David Merodio Codinach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N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Mr. David Dang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936720" y="3637080"/>
            <a:ext cx="820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HANK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necteur droit 21"/>
          <p:cNvSpPr/>
          <p:nvPr/>
        </p:nvSpPr>
        <p:spPr>
          <a:xfrm>
            <a:off x="2808360" y="4213080"/>
            <a:ext cx="4392720" cy="0"/>
          </a:xfrm>
          <a:prstGeom prst="line">
            <a:avLst/>
          </a:prstGeom>
          <a:ln cap="rnd" w="88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age 1" descr=""/>
          <p:cNvPicPr/>
          <p:nvPr/>
        </p:nvPicPr>
        <p:blipFill>
          <a:blip r:embed="rId3"/>
          <a:stretch/>
        </p:blipFill>
        <p:spPr>
          <a:xfrm>
            <a:off x="503280" y="4357800"/>
            <a:ext cx="1676520" cy="669960"/>
          </a:xfrm>
          <a:prstGeom prst="rect">
            <a:avLst/>
          </a:prstGeom>
          <a:ln w="0">
            <a:noFill/>
          </a:ln>
        </p:spPr>
      </p:pic>
      <p:pic>
        <p:nvPicPr>
          <p:cNvPr id="233" name="Image 14" descr="cnes_bleu.jpg"/>
          <p:cNvPicPr/>
          <p:nvPr/>
        </p:nvPicPr>
        <p:blipFill>
          <a:blip r:embed="rId4"/>
          <a:stretch/>
        </p:blipFill>
        <p:spPr>
          <a:xfrm>
            <a:off x="7469280" y="5137200"/>
            <a:ext cx="1928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numéro de diapositive 6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56BA7-0FDF-4EAE-9F74-B93FA59DBCC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 10" descr=""/>
          <p:cNvPicPr/>
          <p:nvPr/>
        </p:nvPicPr>
        <p:blipFill>
          <a:blip r:embed="rId1"/>
          <a:stretch/>
        </p:blipFill>
        <p:spPr>
          <a:xfrm>
            <a:off x="3683160" y="2136600"/>
            <a:ext cx="2761920" cy="2071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936720" y="4500720"/>
            <a:ext cx="820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EMS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onnecteur droit 21"/>
          <p:cNvSpPr/>
          <p:nvPr/>
        </p:nvSpPr>
        <p:spPr>
          <a:xfrm>
            <a:off x="2808360" y="5075280"/>
            <a:ext cx="4392720" cy="0"/>
          </a:xfrm>
          <a:prstGeom prst="line">
            <a:avLst/>
          </a:prstGeom>
          <a:ln cap="rnd" w="88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8"/>
          <p:cNvSpPr/>
          <p:nvPr/>
        </p:nvSpPr>
        <p:spPr>
          <a:xfrm>
            <a:off x="0" y="5651640"/>
            <a:ext cx="1008072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érard Dejong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colas Poiraude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ef Executive Offic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 of FPGA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: 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gerard.dejonghe@erems.fr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: 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nicolas.poiraudeau@erems.f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: +33 - 5 61 36 06 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936720" y="521964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www.erems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Rectangle 15"/>
          <p:cNvGrpSpPr/>
          <p:nvPr/>
        </p:nvGrpSpPr>
        <p:grpSpPr>
          <a:xfrm>
            <a:off x="298440" y="944640"/>
            <a:ext cx="9478800" cy="933480"/>
            <a:chOff x="298440" y="944640"/>
            <a:chExt cx="9478800" cy="933480"/>
          </a:xfrm>
        </p:grpSpPr>
        <p:pic>
          <p:nvPicPr>
            <p:cNvPr id="241" name="Rectangle 15" descr=""/>
            <p:cNvPicPr/>
            <p:nvPr/>
          </p:nvPicPr>
          <p:blipFill>
            <a:blip r:embed="rId2"/>
            <a:stretch/>
          </p:blipFill>
          <p:spPr>
            <a:xfrm>
              <a:off x="298440" y="944640"/>
              <a:ext cx="947880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68280" y="1014480"/>
              <a:ext cx="93441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Text Box 5" descr=""/>
          <p:cNvPicPr/>
          <p:nvPr/>
        </p:nvPicPr>
        <p:blipFill>
          <a:blip r:embed="rId3"/>
          <a:stretch/>
        </p:blipFill>
        <p:spPr>
          <a:xfrm>
            <a:off x="176040" y="957240"/>
            <a:ext cx="97300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6A1DD-D196-42A5-A21A-EA473A7459EB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11240" y="755640"/>
            <a:ext cx="742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/ 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5"/>
          <p:cNvSpPr/>
          <p:nvPr/>
        </p:nvSpPr>
        <p:spPr>
          <a:xfrm>
            <a:off x="863640" y="439560"/>
            <a:ext cx="928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Arial"/>
              </a:rPr>
              <a:t>1/ Introduction </a:t>
            </a: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- 2/ EREMS presentation - 3/ Choice of FPGA target - 4/ Prototypes - 5/ Design - 6/ Performance - 7/ Programming - 8/ 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6"/>
          <p:cNvSpPr/>
          <p:nvPr/>
        </p:nvSpPr>
        <p:spPr>
          <a:xfrm>
            <a:off x="214200" y="1955880"/>
            <a:ext cx="968400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back about flight FPGA based on project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le of cont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 / 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 / EREM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/ Choice of FPGA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4 /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5 /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 /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7 / 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8 / 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7"/>
          <p:cNvSpPr/>
          <p:nvPr/>
        </p:nvSpPr>
        <p:spPr>
          <a:xfrm>
            <a:off x="182520" y="6710400"/>
            <a:ext cx="9644040" cy="354600"/>
          </a:xfrm>
          <a:prstGeom prst="roundRect">
            <a:avLst>
              <a:gd name="adj" fmla="val 16667"/>
            </a:avLst>
          </a:prstGeom>
          <a:solidFill>
            <a:srgbClr val="bbbbe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600" spc="-1" strike="noStrike">
                <a:solidFill>
                  <a:srgbClr val="5e5e5e"/>
                </a:solidFill>
                <a:latin typeface="Arial"/>
              </a:rPr>
              <a:t>PROJECT NAME:</a:t>
            </a:r>
            <a:r>
              <a:rPr b="0" i="1" lang="fr-FR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5e5e5e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5e5e5e"/>
                </a:solidFill>
                <a:latin typeface="Arial"/>
              </a:rPr>
              <a:t>FPGA USED </a:t>
            </a:r>
            <a:r>
              <a:rPr b="0" i="1" lang="fr-FR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5e5e5e"/>
                </a:solidFill>
                <a:latin typeface="Arial"/>
              </a:rPr>
              <a:t>–</a:t>
            </a:r>
            <a:r>
              <a:rPr b="0" i="1" lang="fr-FR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5e5e5e"/>
                </a:solidFill>
                <a:latin typeface="Arial"/>
              </a:rPr>
              <a:t> Main feature, main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3" descr="espace160"/>
          <p:cNvPicPr/>
          <p:nvPr/>
        </p:nvPicPr>
        <p:blipFill>
          <a:blip r:embed="rId1"/>
          <a:srcRect l="33606" t="0" r="0" b="47405"/>
          <a:stretch/>
        </p:blipFill>
        <p:spPr>
          <a:xfrm>
            <a:off x="4968720" y="4307040"/>
            <a:ext cx="2981520" cy="1830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9" name="Picture 14" descr=""/>
          <p:cNvPicPr/>
          <p:nvPr/>
        </p:nvPicPr>
        <p:blipFill>
          <a:blip r:embed="rId2"/>
          <a:stretch/>
        </p:blipFill>
        <p:spPr>
          <a:xfrm>
            <a:off x="7388280" y="2530440"/>
            <a:ext cx="19749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 1" descr=""/>
          <p:cNvPicPr/>
          <p:nvPr/>
        </p:nvPicPr>
        <p:blipFill>
          <a:blip r:embed="rId1"/>
          <a:stretch/>
        </p:blipFill>
        <p:spPr>
          <a:xfrm>
            <a:off x="6245280" y="6416640"/>
            <a:ext cx="1387440" cy="67644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7"/>
          <p:cNvSpPr/>
          <p:nvPr/>
        </p:nvSpPr>
        <p:spPr>
          <a:xfrm>
            <a:off x="214200" y="1474920"/>
            <a:ext cx="968400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EMS, French SME near Toulouse (since 197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pecialized in the design &amp; manufacture of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pace flight electr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s &amp; fac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2 employees (36 engine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ean room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pace Qualifie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pace Certified operators &amp; control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/ supply of space electronic equip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upplies and power distribution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ol/command electr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board computers, data handling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nt end electronics, video acquisition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&amp;T: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PUGEN (Leon3 OnBoard Computing Modu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tific programs: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EPICOLOMBO/PHEBUS, JASON-3/CARMEN, TARA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servation satellit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T 6 &amp; SPOT 7,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HASE B STUDY / PV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elecom program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STAR 3000, IRIDIUM-N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3503A-4569-4BD9-BC1C-472732F8CDB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1240" y="755640"/>
            <a:ext cx="742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/  EREMS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0" descr=""/>
          <p:cNvPicPr/>
          <p:nvPr/>
        </p:nvPicPr>
        <p:blipFill>
          <a:blip r:embed="rId2"/>
          <a:stretch/>
        </p:blipFill>
        <p:spPr>
          <a:xfrm>
            <a:off x="1468440" y="2422440"/>
            <a:ext cx="1954080" cy="10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5" name="il_fi" descr="http://www.nucletudes.com/uploads/editor/image/AIRBUS_D&amp;S_3D_Blue_RGB.png"/>
          <p:cNvPicPr/>
          <p:nvPr/>
        </p:nvPicPr>
        <p:blipFill>
          <a:blip r:embed="rId3"/>
          <a:stretch/>
        </p:blipFill>
        <p:spPr>
          <a:xfrm>
            <a:off x="7540560" y="6208560"/>
            <a:ext cx="1627200" cy="563760"/>
          </a:xfrm>
          <a:prstGeom prst="rect">
            <a:avLst/>
          </a:prstGeom>
          <a:ln w="0">
            <a:noFill/>
          </a:ln>
        </p:spPr>
      </p:pic>
      <p:pic>
        <p:nvPicPr>
          <p:cNvPr id="126" name="Image 16" descr="R:\1_PR1_Commercial\4_Photos_commerciales\BEPICOLOMBO_DPU.jpg"/>
          <p:cNvPicPr/>
          <p:nvPr/>
        </p:nvPicPr>
        <p:blipFill>
          <a:blip r:embed="rId4"/>
          <a:stretch/>
        </p:blipFill>
        <p:spPr>
          <a:xfrm>
            <a:off x="7183440" y="4351320"/>
            <a:ext cx="1577880" cy="1071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7" name="ZoneTexte 10"/>
          <p:cNvSpPr/>
          <p:nvPr/>
        </p:nvSpPr>
        <p:spPr>
          <a:xfrm>
            <a:off x="863640" y="439560"/>
            <a:ext cx="928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1/ Introduction - </a:t>
            </a:r>
            <a:r>
              <a:rPr b="1" lang="fr-FR" sz="1100" spc="-1" strike="noStrike">
                <a:solidFill>
                  <a:srgbClr val="ffffff"/>
                </a:solidFill>
                <a:latin typeface="Arial"/>
              </a:rPr>
              <a:t>2/ EREMS presentation</a:t>
            </a: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 - 3/ Choice of FPGA target - 4/ Prototypes - 5/ Design - 6/ Performance - 7/ Programming - 8/ 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12" descr="cnes_bleu.jpg"/>
          <p:cNvPicPr/>
          <p:nvPr/>
        </p:nvPicPr>
        <p:blipFill>
          <a:blip r:embed="rId5"/>
          <a:stretch/>
        </p:blipFill>
        <p:spPr>
          <a:xfrm>
            <a:off x="8612280" y="5780160"/>
            <a:ext cx="12142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numéro de diapositive 4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041A8-9C20-4065-8CBE-819CB23D78C1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11240" y="758880"/>
            <a:ext cx="742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/  CHOICE OF FPGA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6"/>
          <p:cNvSpPr/>
          <p:nvPr/>
        </p:nvSpPr>
        <p:spPr>
          <a:xfrm>
            <a:off x="182520" y="6458040"/>
            <a:ext cx="9644040" cy="605160"/>
          </a:xfrm>
          <a:prstGeom prst="roundRect">
            <a:avLst>
              <a:gd name="adj" fmla="val 16667"/>
            </a:avLst>
          </a:prstGeom>
          <a:solidFill>
            <a:srgbClr val="bbbbe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TARANIS: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1 RTAX1000 + 2 RTAX2000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–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 PHOTOMETRE analyzer, trigg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CPUGEN: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1 ATF280 </a:t>
            </a:r>
            <a:r>
              <a:rPr b="1" i="1" lang="en-US" sz="1600" spc="-1" strike="noStrike">
                <a:solidFill>
                  <a:srgbClr val="5e5e5e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 1 ATFS450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–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ITAR free Leon3 computing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7"/>
          <p:cNvSpPr/>
          <p:nvPr/>
        </p:nvSpPr>
        <p:spPr>
          <a:xfrm>
            <a:off x="214200" y="1384200"/>
            <a:ext cx="968400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identif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of function (sequencing, signal treat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existing/developing IP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controller: 805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: PID, di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ssor: Elias, FELICS, R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AC: Hamming, Reed-Solo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: SpaceWire, 1553, UAR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pace available on th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Virage 10"/>
          <p:cNvSpPr/>
          <p:nvPr/>
        </p:nvSpPr>
        <p:spPr>
          <a:xfrm flipH="1" rot="10800000">
            <a:off x="967320" y="1878120"/>
            <a:ext cx="428760" cy="1714320"/>
          </a:xfrm>
          <a:custGeom>
            <a:avLst/>
            <a:gdLst/>
            <a:ahLst/>
            <a:rect l="l" t="t" r="r" b="b"/>
            <a:pathLst>
              <a:path w="428625" h="1714500">
                <a:moveTo>
                  <a:pt x="0" y="1714500"/>
                </a:moveTo>
                <a:lnTo>
                  <a:pt x="0" y="196353"/>
                </a:lnTo>
                <a:lnTo>
                  <a:pt x="0" y="196353"/>
                </a:lnTo>
                <a:arcTo wR="144721" hR="144721" stAng="10800000" swAng="5400000"/>
                <a:lnTo>
                  <a:pt x="325361" y="51632"/>
                </a:lnTo>
                <a:lnTo>
                  <a:pt x="325361" y="0"/>
                </a:lnTo>
                <a:lnTo>
                  <a:pt x="428625" y="105210"/>
                </a:lnTo>
                <a:lnTo>
                  <a:pt x="325361" y="210421"/>
                </a:lnTo>
                <a:lnTo>
                  <a:pt x="325361" y="158788"/>
                </a:lnTo>
                <a:lnTo>
                  <a:pt x="144721" y="158788"/>
                </a:lnTo>
                <a:lnTo>
                  <a:pt x="144721" y="158788"/>
                </a:lnTo>
                <a:arcTo wR="37565" hR="37565" stAng="-5400000" swAng="-5400000"/>
                <a:lnTo>
                  <a:pt x="107156" y="1714500"/>
                </a:lnTo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5400000"/>
          </a:gradFill>
          <a:ln w="9360">
            <a:solidFill>
              <a:srgbClr val="2e2ec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1"/>
          <p:cNvSpPr/>
          <p:nvPr/>
        </p:nvSpPr>
        <p:spPr>
          <a:xfrm>
            <a:off x="1428840" y="3327480"/>
            <a:ext cx="839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s est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PGA size + IO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Virage 12"/>
          <p:cNvSpPr/>
          <p:nvPr/>
        </p:nvSpPr>
        <p:spPr>
          <a:xfrm flipH="1" rot="10800000">
            <a:off x="2110320" y="3728520"/>
            <a:ext cx="428760" cy="667080"/>
          </a:xfrm>
          <a:custGeom>
            <a:avLst/>
            <a:gdLst/>
            <a:ahLst/>
            <a:rect l="l" t="t" r="r" b="b"/>
            <a:pathLst>
              <a:path w="428625" h="666750">
                <a:moveTo>
                  <a:pt x="0" y="666750"/>
                </a:moveTo>
                <a:lnTo>
                  <a:pt x="0" y="196353"/>
                </a:lnTo>
                <a:lnTo>
                  <a:pt x="0" y="196353"/>
                </a:lnTo>
                <a:arcTo wR="144721" hR="144721" stAng="10800000" swAng="5400000"/>
                <a:lnTo>
                  <a:pt x="325361" y="51632"/>
                </a:lnTo>
                <a:lnTo>
                  <a:pt x="325361" y="0"/>
                </a:lnTo>
                <a:lnTo>
                  <a:pt x="428625" y="105210"/>
                </a:lnTo>
                <a:lnTo>
                  <a:pt x="325361" y="210421"/>
                </a:lnTo>
                <a:lnTo>
                  <a:pt x="325361" y="158788"/>
                </a:lnTo>
                <a:lnTo>
                  <a:pt x="144721" y="158788"/>
                </a:lnTo>
                <a:lnTo>
                  <a:pt x="144721" y="158788"/>
                </a:lnTo>
                <a:arcTo wR="37565" hR="37565" stAng="-5400000" swAng="-5400000"/>
                <a:lnTo>
                  <a:pt x="107156" y="666750"/>
                </a:lnTo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5400000"/>
          </a:gradFill>
          <a:ln w="9360">
            <a:solidFill>
              <a:srgbClr val="2e2ec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3"/>
          <p:cNvSpPr/>
          <p:nvPr/>
        </p:nvSpPr>
        <p:spPr>
          <a:xfrm>
            <a:off x="2611440" y="4113360"/>
            <a:ext cx="69292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PGA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4"/>
          <p:cNvSpPr/>
          <p:nvPr/>
        </p:nvSpPr>
        <p:spPr>
          <a:xfrm>
            <a:off x="214200" y="4584600"/>
            <a:ext cx="968400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back : 2 helpful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N compatibility for 1 FPGA 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SX32/7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AX250/1000/2000 (TARA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F280/S450 (CPU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QFP packa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red to CC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5"/>
          <p:cNvSpPr/>
          <p:nvPr/>
        </p:nvSpPr>
        <p:spPr>
          <a:xfrm>
            <a:off x="863640" y="439560"/>
            <a:ext cx="928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1/ Introduction - 2/ EREMS presentation - </a:t>
            </a:r>
            <a:r>
              <a:rPr b="1" lang="fr-FR" sz="1100" spc="-1" strike="noStrike">
                <a:solidFill>
                  <a:srgbClr val="ffffff"/>
                </a:solidFill>
                <a:latin typeface="Arial"/>
              </a:rPr>
              <a:t>3/ Choice of FPGA target</a:t>
            </a: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 - 4/ Prototypes - 5/ Design - 6/ Performance - 7/ Programming - 8/ 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1"/>
          <a:stretch/>
        </p:blipFill>
        <p:spPr>
          <a:xfrm>
            <a:off x="5754600" y="3306600"/>
            <a:ext cx="4129200" cy="250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Flèche droite 17"/>
          <p:cNvSpPr/>
          <p:nvPr/>
        </p:nvSpPr>
        <p:spPr>
          <a:xfrm>
            <a:off x="1825560" y="2382840"/>
            <a:ext cx="169920" cy="106200"/>
          </a:xfrm>
          <a:prstGeom prst="rightArrow">
            <a:avLst>
              <a:gd name="adj1" fmla="val 50000"/>
              <a:gd name="adj2" fmla="val 50096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lèche droite 18"/>
          <p:cNvSpPr/>
          <p:nvPr/>
        </p:nvSpPr>
        <p:spPr>
          <a:xfrm>
            <a:off x="1825560" y="2593800"/>
            <a:ext cx="169920" cy="108000"/>
          </a:xfrm>
          <a:prstGeom prst="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èche droite 20"/>
          <p:cNvSpPr/>
          <p:nvPr/>
        </p:nvSpPr>
        <p:spPr>
          <a:xfrm>
            <a:off x="1825560" y="2819520"/>
            <a:ext cx="169920" cy="106200"/>
          </a:xfrm>
          <a:prstGeom prst="rightArrow">
            <a:avLst>
              <a:gd name="adj1" fmla="val 50000"/>
              <a:gd name="adj2" fmla="val 50096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lèche droite 21"/>
          <p:cNvSpPr/>
          <p:nvPr/>
        </p:nvSpPr>
        <p:spPr>
          <a:xfrm>
            <a:off x="6299280" y="2378160"/>
            <a:ext cx="169920" cy="106200"/>
          </a:xfrm>
          <a:prstGeom prst="rightArrow">
            <a:avLst>
              <a:gd name="adj1" fmla="val 50000"/>
              <a:gd name="adj2" fmla="val 50096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lèche droite 22"/>
          <p:cNvSpPr/>
          <p:nvPr/>
        </p:nvSpPr>
        <p:spPr>
          <a:xfrm>
            <a:off x="6299280" y="2592360"/>
            <a:ext cx="169920" cy="106560"/>
          </a:xfrm>
          <a:prstGeom prst="rightArrow">
            <a:avLst>
              <a:gd name="adj1" fmla="val 50000"/>
              <a:gd name="adj2" fmla="val 4992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èche droite 25"/>
          <p:cNvSpPr/>
          <p:nvPr/>
        </p:nvSpPr>
        <p:spPr>
          <a:xfrm>
            <a:off x="1825560" y="5227560"/>
            <a:ext cx="169920" cy="106560"/>
          </a:xfrm>
          <a:prstGeom prst="rightArrow">
            <a:avLst>
              <a:gd name="adj1" fmla="val 50000"/>
              <a:gd name="adj2" fmla="val 4992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èche droite 26"/>
          <p:cNvSpPr/>
          <p:nvPr/>
        </p:nvSpPr>
        <p:spPr>
          <a:xfrm>
            <a:off x="1825560" y="5438880"/>
            <a:ext cx="169920" cy="108000"/>
          </a:xfrm>
          <a:prstGeom prst="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lèche droite 27"/>
          <p:cNvSpPr/>
          <p:nvPr/>
        </p:nvSpPr>
        <p:spPr>
          <a:xfrm>
            <a:off x="1825560" y="5664240"/>
            <a:ext cx="169920" cy="106200"/>
          </a:xfrm>
          <a:prstGeom prst="rightArrow">
            <a:avLst>
              <a:gd name="adj1" fmla="val 50000"/>
              <a:gd name="adj2" fmla="val 50096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numéro de diapositive 4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0ED36-E8D2-4D6C-ABEC-EC9BB334846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240" y="755640"/>
            <a:ext cx="742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/  PROT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7"/>
          <p:cNvSpPr/>
          <p:nvPr/>
        </p:nvSpPr>
        <p:spPr>
          <a:xfrm>
            <a:off x="214200" y="1716120"/>
            <a:ext cx="96840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Time Programmable FPGA (OTP) : 3 or 4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15"/>
          <p:cNvSpPr/>
          <p:nvPr/>
        </p:nvSpPr>
        <p:spPr>
          <a:xfrm>
            <a:off x="863640" y="439560"/>
            <a:ext cx="928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1/ Introduction - 2/ EREMS presentation - 3/ Choice of FPGA target - </a:t>
            </a:r>
            <a:r>
              <a:rPr b="1" lang="fr-FR" sz="1100" spc="-1" strike="noStrike">
                <a:solidFill>
                  <a:srgbClr val="ffffff"/>
                </a:solidFill>
                <a:latin typeface="Arial"/>
              </a:rPr>
              <a:t>4/ Prototypes</a:t>
            </a: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 - 5/ Design - 6/ Performance - 7/ Programming - 8/ 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http://git2_gestion_conf.erems.loc/git_fpga/0C_Ref_ACTEL/13_Outils%20EREMS/02_CarteAdapt/Z_Photo/Plaquettes.jpg"/>
          <p:cNvPicPr/>
          <p:nvPr/>
        </p:nvPicPr>
        <p:blipFill>
          <a:blip r:embed="rId1"/>
          <a:stretch/>
        </p:blipFill>
        <p:spPr>
          <a:xfrm>
            <a:off x="216000" y="2917800"/>
            <a:ext cx="3241440" cy="172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3" name="Image 5" descr=""/>
          <p:cNvPicPr/>
          <p:nvPr/>
        </p:nvPicPr>
        <p:blipFill>
          <a:blip r:embed="rId2"/>
          <a:srcRect l="34678" t="22779" r="42442" b="41685"/>
          <a:stretch/>
        </p:blipFill>
        <p:spPr>
          <a:xfrm>
            <a:off x="4618080" y="2774880"/>
            <a:ext cx="1944720" cy="2013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4" name="Image 26" descr=""/>
          <p:cNvPicPr/>
          <p:nvPr/>
        </p:nvPicPr>
        <p:blipFill>
          <a:blip r:embed="rId3"/>
          <a:srcRect l="36525" t="37376" r="36215" b="23439"/>
          <a:stretch/>
        </p:blipFill>
        <p:spPr>
          <a:xfrm>
            <a:off x="7723080" y="2774880"/>
            <a:ext cx="2102040" cy="2013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5" name="Flèche droite 27"/>
          <p:cNvSpPr/>
          <p:nvPr/>
        </p:nvSpPr>
        <p:spPr>
          <a:xfrm>
            <a:off x="3656160" y="3673440"/>
            <a:ext cx="649080" cy="216000"/>
          </a:xfrm>
          <a:prstGeom prst="rightArrow">
            <a:avLst>
              <a:gd name="adj1" fmla="val 50000"/>
              <a:gd name="adj2" fmla="val 49958"/>
            </a:avLst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lèche droite 28"/>
          <p:cNvSpPr/>
          <p:nvPr/>
        </p:nvSpPr>
        <p:spPr>
          <a:xfrm>
            <a:off x="6891480" y="3673440"/>
            <a:ext cx="649080" cy="216000"/>
          </a:xfrm>
          <a:prstGeom prst="rightArrow">
            <a:avLst>
              <a:gd name="adj1" fmla="val 50000"/>
              <a:gd name="adj2" fmla="val 49958"/>
            </a:avLst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1A00C-6C98-4AAD-AA63-E23081852A9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11240" y="755640"/>
            <a:ext cx="742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/  PROT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7"/>
          <p:cNvSpPr/>
          <p:nvPr/>
        </p:nvSpPr>
        <p:spPr>
          <a:xfrm>
            <a:off x="214200" y="1311120"/>
            <a:ext cx="96840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Time Programmable FPGA (OTP): 3 or 4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6"/>
          <p:cNvSpPr/>
          <p:nvPr/>
        </p:nvSpPr>
        <p:spPr>
          <a:xfrm>
            <a:off x="182520" y="5950080"/>
            <a:ext cx="9644040" cy="1106280"/>
          </a:xfrm>
          <a:prstGeom prst="roundRect">
            <a:avLst>
              <a:gd name="adj" fmla="val 16667"/>
            </a:avLst>
          </a:prstGeom>
          <a:solidFill>
            <a:srgbClr val="bbbbe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CARMEN: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2 RTSX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–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 Data processing, including micr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PHEBUS: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1 RTAX1000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–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 Data processing, imaging, IP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PVL: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1 RTAX2000 D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–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 Filtering, interp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CPUGEN: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1 ATF280 </a:t>
            </a:r>
            <a:r>
              <a:rPr b="1" i="1" lang="en-US" sz="1600" spc="-1" strike="noStrike">
                <a:solidFill>
                  <a:srgbClr val="5e5e5e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 1 ATFS450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–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ITAR free Leon3 computing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15"/>
          <p:cNvSpPr/>
          <p:nvPr/>
        </p:nvSpPr>
        <p:spPr>
          <a:xfrm>
            <a:off x="863640" y="439560"/>
            <a:ext cx="928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1/ Introduction - 2/ EREMS presentation - 3/ Choice of FPGA target - </a:t>
            </a:r>
            <a:r>
              <a:rPr b="1" lang="fr-FR" sz="1100" spc="-1" strike="noStrike">
                <a:solidFill>
                  <a:srgbClr val="ffffff"/>
                </a:solidFill>
                <a:latin typeface="Arial"/>
              </a:rPr>
              <a:t>4/ Prototypes</a:t>
            </a: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 - 5/ Design - 6/ Performance - 7/ Programming - 8/ 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17"/>
          <p:cNvSpPr/>
          <p:nvPr/>
        </p:nvSpPr>
        <p:spPr>
          <a:xfrm>
            <a:off x="216000" y="4941720"/>
            <a:ext cx="96836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FPGA: 2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ome prototypes of programmable flight FPGA are quite expensiv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otype ATF280 vs. Flight ATF280 cost ratio ≈ 1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8"/>
          <p:cNvSpPr/>
          <p:nvPr/>
        </p:nvSpPr>
        <p:spPr>
          <a:xfrm>
            <a:off x="216000" y="2708280"/>
            <a:ext cx="968364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  <a:ea typeface="Arial"/>
              </a:rPr>
              <a:t>Does the same package follow the whole flow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ost of programmable FPGA and OTP FPGA have different packag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apter layout to have the programmable fit the OTP (CARMEN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uble-prints on the same board (PHEBUS)</a:t>
            </a:r>
            <a:br>
              <a:rPr sz="1600"/>
            </a:br>
            <a:br>
              <a:rPr sz="1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  <a:ea typeface="Arial"/>
              </a:rPr>
              <a:t> Does a low-cost FPGA exist with the same matrix technology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o FPGA exists with DSP blocks to prototype RTAX2000D (PVL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Xilinx prototype + adapter layout or socket to fit with the final 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otype RTAX2000D vs. Flight RTAX2000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st rati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≈ 1/10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http://git2_gestion_conf.erems.loc/git_fpga/0C_Ref_ACTEL/13_Outils%20EREMS/02_CarteAdapt/Z_Photo/Plaquettes.jpg"/>
          <p:cNvPicPr/>
          <p:nvPr/>
        </p:nvPicPr>
        <p:blipFill>
          <a:blip r:embed="rId1"/>
          <a:stretch/>
        </p:blipFill>
        <p:spPr>
          <a:xfrm>
            <a:off x="1655640" y="1935000"/>
            <a:ext cx="1333800" cy="709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65" name="Image 5" descr=""/>
          <p:cNvPicPr/>
          <p:nvPr/>
        </p:nvPicPr>
        <p:blipFill>
          <a:blip r:embed="rId2"/>
          <a:srcRect l="34676" t="22779" r="42436" b="41697"/>
          <a:stretch/>
        </p:blipFill>
        <p:spPr>
          <a:xfrm>
            <a:off x="4248000" y="1889280"/>
            <a:ext cx="776520" cy="80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6" name="Flèche droite 21"/>
          <p:cNvSpPr/>
          <p:nvPr/>
        </p:nvSpPr>
        <p:spPr>
          <a:xfrm>
            <a:off x="3311640" y="2195640"/>
            <a:ext cx="649080" cy="215640"/>
          </a:xfrm>
          <a:prstGeom prst="right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lèche droite 22"/>
          <p:cNvSpPr/>
          <p:nvPr/>
        </p:nvSpPr>
        <p:spPr>
          <a:xfrm>
            <a:off x="5400720" y="2195640"/>
            <a:ext cx="649080" cy="215640"/>
          </a:xfrm>
          <a:prstGeom prst="right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age 23" descr=""/>
          <p:cNvPicPr/>
          <p:nvPr/>
        </p:nvPicPr>
        <p:blipFill>
          <a:blip r:embed="rId3"/>
          <a:srcRect l="36523" t="37372" r="36212" b="23446"/>
          <a:stretch/>
        </p:blipFill>
        <p:spPr>
          <a:xfrm>
            <a:off x="6408720" y="1911240"/>
            <a:ext cx="789120" cy="7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69" name="Image 3" descr=""/>
          <p:cNvPicPr/>
          <p:nvPr/>
        </p:nvPicPr>
        <p:blipFill>
          <a:blip r:embed="rId4"/>
          <a:srcRect l="34898" t="36753" r="32825" b="20774"/>
          <a:stretch/>
        </p:blipFill>
        <p:spPr>
          <a:xfrm>
            <a:off x="8569440" y="3305160"/>
            <a:ext cx="1295280" cy="1019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70" name="Flèche droite 30"/>
          <p:cNvSpPr/>
          <p:nvPr/>
        </p:nvSpPr>
        <p:spPr>
          <a:xfrm>
            <a:off x="2303640" y="339408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lèche droite 32"/>
          <p:cNvSpPr/>
          <p:nvPr/>
        </p:nvSpPr>
        <p:spPr>
          <a:xfrm>
            <a:off x="2303640" y="361008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èche droite 33"/>
          <p:cNvSpPr/>
          <p:nvPr/>
        </p:nvSpPr>
        <p:spPr>
          <a:xfrm>
            <a:off x="2303640" y="4422600"/>
            <a:ext cx="169560" cy="108000"/>
          </a:xfrm>
          <a:prstGeom prst="rightArrow">
            <a:avLst>
              <a:gd name="adj1" fmla="val 50000"/>
              <a:gd name="adj2" fmla="val 49891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lèche droite 34"/>
          <p:cNvSpPr/>
          <p:nvPr/>
        </p:nvSpPr>
        <p:spPr>
          <a:xfrm>
            <a:off x="2303640" y="5575320"/>
            <a:ext cx="169560" cy="10620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èche droite 27"/>
          <p:cNvSpPr/>
          <p:nvPr/>
        </p:nvSpPr>
        <p:spPr>
          <a:xfrm>
            <a:off x="2298600" y="4637160"/>
            <a:ext cx="169920" cy="108000"/>
          </a:xfrm>
          <a:prstGeom prst="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Image 2" descr=""/>
          <p:cNvPicPr/>
          <p:nvPr/>
        </p:nvPicPr>
        <p:blipFill>
          <a:blip r:embed="rId1"/>
          <a:srcRect l="2852" t="5786" r="4427" b="5180"/>
          <a:stretch/>
        </p:blipFill>
        <p:spPr>
          <a:xfrm>
            <a:off x="8202600" y="4189320"/>
            <a:ext cx="1838160" cy="662040"/>
          </a:xfrm>
          <a:prstGeom prst="rect">
            <a:avLst/>
          </a:prstGeom>
          <a:ln w="0">
            <a:noFill/>
          </a:ln>
        </p:spPr>
      </p:pic>
      <p:sp>
        <p:nvSpPr>
          <p:cNvPr id="176" name="Espace réservé du numéro de diapositive 4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7CEE5-50B7-4550-ABA4-9CA821E1EE2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11240" y="755640"/>
            <a:ext cx="742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/ 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oneTexte 15"/>
          <p:cNvSpPr/>
          <p:nvPr/>
        </p:nvSpPr>
        <p:spPr>
          <a:xfrm>
            <a:off x="182520" y="6458040"/>
            <a:ext cx="9644040" cy="605160"/>
          </a:xfrm>
          <a:prstGeom prst="roundRect">
            <a:avLst>
              <a:gd name="adj" fmla="val 16667"/>
            </a:avLst>
          </a:prstGeom>
          <a:solidFill>
            <a:srgbClr val="bbbbe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TARANIS: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1 RTAX1000 + 2 RTAX2000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–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 PHOTOMETRE analyzer, trigg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CPUGEN: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1 ATF280 </a:t>
            </a:r>
            <a:r>
              <a:rPr b="1" i="1" lang="en-US" sz="1600" spc="-1" strike="noStrike">
                <a:solidFill>
                  <a:srgbClr val="5e5e5e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 1 ATFS450 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–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5e5e5e"/>
                </a:solidFill>
                <a:latin typeface="Arial"/>
              </a:rPr>
              <a:t>ITAR free board including micr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6"/>
          <p:cNvSpPr/>
          <p:nvPr/>
        </p:nvSpPr>
        <p:spPr>
          <a:xfrm>
            <a:off x="214200" y="1708200"/>
            <a:ext cx="96840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B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updates between 01/2011 and 02/2012 for the version 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updates of Simplify + CN1410 (TARA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warnings before the last version 9.2 SP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new version to be used for current flight FP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ion 2012c.14 OEM_ATM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PM_MUX (ATF280) was not properly synthesized by the software (CPU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son between functional &amp; post synthesis sim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license validity for significan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GA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ntuitive handling despite the good reactivity of the customer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7"/>
          <p:cNvSpPr/>
          <p:nvPr/>
        </p:nvSpPr>
        <p:spPr>
          <a:xfrm>
            <a:off x="863640" y="439560"/>
            <a:ext cx="928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f2f2f2"/>
                </a:solidFill>
                <a:latin typeface="Arial"/>
              </a:rPr>
              <a:t>1/ Introduction - 2/ EREMS presentation - 3/ Choice of FPGA target - 4/ Prototypes -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/ Design</a:t>
            </a:r>
            <a:r>
              <a:rPr b="0" i="1" lang="en-US" sz="11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f2f2f2"/>
                </a:solidFill>
                <a:latin typeface="Arial"/>
              </a:rPr>
              <a:t>- 6/ Performance </a:t>
            </a:r>
            <a:r>
              <a:rPr b="0" i="1" lang="en-US" sz="1100" spc="-1" strike="noStrike">
                <a:solidFill>
                  <a:srgbClr val="f2f2f2"/>
                </a:solidFill>
                <a:latin typeface="Arial"/>
              </a:rPr>
              <a:t>- 7/ Programming - 8/ 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1" descr=""/>
          <p:cNvPicPr/>
          <p:nvPr/>
        </p:nvPicPr>
        <p:blipFill>
          <a:blip r:embed="rId2"/>
          <a:stretch/>
        </p:blipFill>
        <p:spPr>
          <a:xfrm>
            <a:off x="8008920" y="5280120"/>
            <a:ext cx="1414440" cy="896760"/>
          </a:xfrm>
          <a:prstGeom prst="rect">
            <a:avLst/>
          </a:prstGeom>
          <a:ln w="0">
            <a:noFill/>
          </a:ln>
        </p:spPr>
      </p:pic>
      <p:pic>
        <p:nvPicPr>
          <p:cNvPr id="182" name="Image 12" descr=""/>
          <p:cNvPicPr/>
          <p:nvPr/>
        </p:nvPicPr>
        <p:blipFill>
          <a:blip r:embed="rId3"/>
          <a:stretch/>
        </p:blipFill>
        <p:spPr>
          <a:xfrm>
            <a:off x="7651800" y="2565360"/>
            <a:ext cx="2128680" cy="409680"/>
          </a:xfrm>
          <a:prstGeom prst="rect">
            <a:avLst/>
          </a:prstGeom>
          <a:ln w="0">
            <a:noFill/>
          </a:ln>
        </p:spPr>
      </p:pic>
      <p:sp>
        <p:nvSpPr>
          <p:cNvPr id="183" name="Virage 11"/>
          <p:cNvSpPr/>
          <p:nvPr/>
        </p:nvSpPr>
        <p:spPr>
          <a:xfrm flipH="1" rot="10800000">
            <a:off x="1611360" y="2793600"/>
            <a:ext cx="357120" cy="428760"/>
          </a:xfrm>
          <a:custGeom>
            <a:avLst/>
            <a:gdLst/>
            <a:ahLst/>
            <a:rect l="l" t="t" r="r" b="b"/>
            <a:pathLst>
              <a:path w="357187" h="428625">
                <a:moveTo>
                  <a:pt x="0" y="428625"/>
                </a:moveTo>
                <a:lnTo>
                  <a:pt x="0" y="163627"/>
                </a:lnTo>
                <a:lnTo>
                  <a:pt x="0" y="163627"/>
                </a:lnTo>
                <a:arcTo wR="120601" hR="120601" stAng="10800000" swAng="5400000"/>
                <a:lnTo>
                  <a:pt x="271134" y="43027"/>
                </a:lnTo>
                <a:lnTo>
                  <a:pt x="271134" y="0"/>
                </a:lnTo>
                <a:lnTo>
                  <a:pt x="357187" y="87675"/>
                </a:lnTo>
                <a:lnTo>
                  <a:pt x="271134" y="175350"/>
                </a:lnTo>
                <a:lnTo>
                  <a:pt x="271134" y="132323"/>
                </a:lnTo>
                <a:lnTo>
                  <a:pt x="120601" y="132323"/>
                </a:lnTo>
                <a:lnTo>
                  <a:pt x="120601" y="132323"/>
                </a:lnTo>
                <a:arcTo wR="31304" hR="31304" stAng="-5400000" swAng="-5400000"/>
                <a:lnTo>
                  <a:pt x="89297" y="428625"/>
                </a:lnTo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5400000"/>
          </a:gradFill>
          <a:ln w="9360">
            <a:solidFill>
              <a:srgbClr val="2e2ec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Virage 12"/>
          <p:cNvSpPr/>
          <p:nvPr/>
        </p:nvSpPr>
        <p:spPr>
          <a:xfrm flipH="1" rot="10800000">
            <a:off x="1611360" y="4437000"/>
            <a:ext cx="357120" cy="357120"/>
          </a:xfrm>
          <a:custGeom>
            <a:avLst/>
            <a:gdLst/>
            <a:ahLst/>
            <a:rect l="l" t="t" r="r" b="b"/>
            <a:pathLst>
              <a:path w="357187" h="357187">
                <a:moveTo>
                  <a:pt x="0" y="357187"/>
                </a:moveTo>
                <a:lnTo>
                  <a:pt x="0" y="163627"/>
                </a:lnTo>
                <a:lnTo>
                  <a:pt x="0" y="163627"/>
                </a:lnTo>
                <a:arcTo wR="120601" hR="120601" stAng="10800000" swAng="5400000"/>
                <a:lnTo>
                  <a:pt x="271134" y="43027"/>
                </a:lnTo>
                <a:lnTo>
                  <a:pt x="271134" y="0"/>
                </a:lnTo>
                <a:lnTo>
                  <a:pt x="357187" y="87675"/>
                </a:lnTo>
                <a:lnTo>
                  <a:pt x="271134" y="175350"/>
                </a:lnTo>
                <a:lnTo>
                  <a:pt x="271134" y="132323"/>
                </a:lnTo>
                <a:lnTo>
                  <a:pt x="120601" y="132323"/>
                </a:lnTo>
                <a:lnTo>
                  <a:pt x="120601" y="132323"/>
                </a:lnTo>
                <a:arcTo wR="31304" hR="31304" stAng="-5400000" swAng="-5400000"/>
                <a:lnTo>
                  <a:pt x="89297" y="357187"/>
                </a:lnTo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5400000"/>
          </a:gradFill>
          <a:ln w="9360">
            <a:solidFill>
              <a:srgbClr val="2e2ec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numéro de diapositive 4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352E5-FA06-4C5A-BB34-399B5B2D6EC1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11240" y="755640"/>
            <a:ext cx="742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/ 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92240" y="1258920"/>
          <a:ext cx="9745560" cy="5773680"/>
        </p:xfrm>
        <a:graphic>
          <a:graphicData uri="http://schemas.openxmlformats.org/drawingml/2006/table">
            <a:tbl>
              <a:tblPr/>
              <a:tblGrid>
                <a:gridCol w="849240"/>
                <a:gridCol w="119160"/>
                <a:gridCol w="625320"/>
                <a:gridCol w="1247760"/>
                <a:gridCol w="968400"/>
                <a:gridCol w="830160"/>
                <a:gridCol w="2513160"/>
                <a:gridCol w="2592360"/>
              </a:tblGrid>
              <a:tr h="354600">
                <a:tc gridSpan="3"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PGA Matr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ing Frequ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cupancy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 Fun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c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X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 FF; 47% Cb; 100% 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ransfer by Lase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7800">
                <a:tc gridSpan="2" rowSpan="2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MEN (Icare-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X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 FF; 45% Cb; 96% 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-processor compan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27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X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 F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87% Cb; 95% 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of components in radiative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924840">
                <a:tc gridSpan="3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pi-Colomb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AX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 FF; 80% Cb; 92% IO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% 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51µC (IP MICROSEMI), image processing, image compressions (coordinate, binary, Elia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27760">
                <a:tc rowSpan="3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AN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AX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 FF; 26% Cb; 66% IO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 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 signal acquisition, event trigger (ration algorith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52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AX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 FF; 83% Cb; 95% IO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 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 compressions (FELICS, RLE), PID Thermal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2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G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AX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x 2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% FF; 51% Cb; 97%IO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 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trum generation, event tri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527400">
                <a:tc gridSpan="3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ud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AX200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 FF; 28% Cb; 0% RAM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D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 demodulation, filtering and interpo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924840">
                <a:tc gridSpan="3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GEN (R&amp;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F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tible ATFS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Cell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7% Nets; 65% IO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n3 boot and board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 cells free for user appl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88" name="ZoneTexte 6"/>
          <p:cNvSpPr/>
          <p:nvPr/>
        </p:nvSpPr>
        <p:spPr>
          <a:xfrm>
            <a:off x="863640" y="439560"/>
            <a:ext cx="928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1/ Introduction - 2/ EREMS presentation - 3/ Choice of FPGA target - 4/ Prototypes - 5/ Design - </a:t>
            </a:r>
            <a:r>
              <a:rPr b="1" lang="fr-FR" sz="1100" spc="-1" strike="noStrike">
                <a:solidFill>
                  <a:srgbClr val="ffffff"/>
                </a:solidFill>
                <a:latin typeface="Arial"/>
              </a:rPr>
              <a:t>6/ Performance</a:t>
            </a: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 - 7/ Programming - 8/ 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à coins arrondis 5"/>
          <p:cNvSpPr/>
          <p:nvPr/>
        </p:nvSpPr>
        <p:spPr>
          <a:xfrm>
            <a:off x="4826160" y="1851120"/>
            <a:ext cx="2500200" cy="357120"/>
          </a:xfrm>
          <a:prstGeom prst="roundRect">
            <a:avLst>
              <a:gd name="adj" fmla="val 16667"/>
            </a:avLst>
          </a:prstGeom>
          <a:solidFill>
            <a:srgbClr val="47ffd1">
              <a:alpha val="20000"/>
            </a:srgbClr>
          </a:solidFill>
          <a:ln w="28440">
            <a:solidFill>
              <a:srgbClr val="09c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à coins arrondis 7"/>
          <p:cNvSpPr/>
          <p:nvPr/>
        </p:nvSpPr>
        <p:spPr>
          <a:xfrm>
            <a:off x="4826160" y="2494080"/>
            <a:ext cx="2500200" cy="571320"/>
          </a:xfrm>
          <a:prstGeom prst="roundRect">
            <a:avLst>
              <a:gd name="adj" fmla="val 16667"/>
            </a:avLst>
          </a:prstGeom>
          <a:solidFill>
            <a:srgbClr val="47ffd1">
              <a:alpha val="20000"/>
            </a:srgbClr>
          </a:solidFill>
          <a:ln w="28440">
            <a:solidFill>
              <a:srgbClr val="09c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à coins arrondis 9"/>
          <p:cNvSpPr/>
          <p:nvPr/>
        </p:nvSpPr>
        <p:spPr>
          <a:xfrm>
            <a:off x="4826160" y="4494240"/>
            <a:ext cx="2500200" cy="500040"/>
          </a:xfrm>
          <a:prstGeom prst="roundRect">
            <a:avLst>
              <a:gd name="adj" fmla="val 16667"/>
            </a:avLst>
          </a:prstGeom>
          <a:solidFill>
            <a:srgbClr val="47ffd1">
              <a:alpha val="20000"/>
            </a:srgbClr>
          </a:solidFill>
          <a:ln w="28440">
            <a:solidFill>
              <a:srgbClr val="09c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à coins arrondis 10"/>
          <p:cNvSpPr/>
          <p:nvPr/>
        </p:nvSpPr>
        <p:spPr>
          <a:xfrm>
            <a:off x="3040200" y="1851120"/>
            <a:ext cx="1785960" cy="357120"/>
          </a:xfrm>
          <a:prstGeom prst="roundRect">
            <a:avLst>
              <a:gd name="adj" fmla="val 16667"/>
            </a:avLst>
          </a:prstGeom>
          <a:solidFill>
            <a:srgbClr val="47ffd1">
              <a:alpha val="20000"/>
            </a:srgbClr>
          </a:solidFill>
          <a:ln w="28440">
            <a:solidFill>
              <a:srgbClr val="09c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à coins arrondis 11"/>
          <p:cNvSpPr/>
          <p:nvPr/>
        </p:nvSpPr>
        <p:spPr>
          <a:xfrm>
            <a:off x="3040200" y="5565600"/>
            <a:ext cx="1785960" cy="500400"/>
          </a:xfrm>
          <a:prstGeom prst="roundRect">
            <a:avLst>
              <a:gd name="adj" fmla="val 16667"/>
            </a:avLst>
          </a:prstGeom>
          <a:solidFill>
            <a:srgbClr val="47ffd1">
              <a:alpha val="20000"/>
            </a:srgbClr>
          </a:solidFill>
          <a:ln w="28440">
            <a:solidFill>
              <a:srgbClr val="09c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à coins arrondis 12"/>
          <p:cNvSpPr/>
          <p:nvPr/>
        </p:nvSpPr>
        <p:spPr>
          <a:xfrm>
            <a:off x="7326360" y="6066000"/>
            <a:ext cx="2571840" cy="928440"/>
          </a:xfrm>
          <a:prstGeom prst="roundRect">
            <a:avLst>
              <a:gd name="adj" fmla="val 16667"/>
            </a:avLst>
          </a:prstGeom>
          <a:solidFill>
            <a:srgbClr val="47ffd1">
              <a:alpha val="20000"/>
            </a:srgbClr>
          </a:solidFill>
          <a:ln w="28440">
            <a:solidFill>
              <a:srgbClr val="09c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à coins arrondis 13"/>
          <p:cNvSpPr/>
          <p:nvPr/>
        </p:nvSpPr>
        <p:spPr>
          <a:xfrm>
            <a:off x="7326360" y="30654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47ffd1">
              <a:alpha val="20000"/>
            </a:srgbClr>
          </a:solidFill>
          <a:ln w="28440">
            <a:solidFill>
              <a:srgbClr val="09c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onnecteur droit 15"/>
          <p:cNvSpPr/>
          <p:nvPr/>
        </p:nvSpPr>
        <p:spPr>
          <a:xfrm>
            <a:off x="4897440" y="6066000"/>
            <a:ext cx="785880" cy="0"/>
          </a:xfrm>
          <a:prstGeom prst="line">
            <a:avLst/>
          </a:prstGeom>
          <a:ln w="28440">
            <a:solidFill>
              <a:srgbClr val="09c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necteur droit 16"/>
          <p:cNvSpPr/>
          <p:nvPr/>
        </p:nvSpPr>
        <p:spPr>
          <a:xfrm>
            <a:off x="4826160" y="6566040"/>
            <a:ext cx="785520" cy="0"/>
          </a:xfrm>
          <a:prstGeom prst="line">
            <a:avLst/>
          </a:prstGeom>
          <a:ln w="28440">
            <a:solidFill>
              <a:srgbClr val="09c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numéro de diapositive 4"/>
          <p:cNvSpPr/>
          <p:nvPr/>
        </p:nvSpPr>
        <p:spPr>
          <a:xfrm>
            <a:off x="7662960" y="7236000"/>
            <a:ext cx="2346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83BB7-04B1-4699-91D5-C18784CA3D3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11240" y="755640"/>
            <a:ext cx="742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 / 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oneTexte 6"/>
          <p:cNvSpPr/>
          <p:nvPr/>
        </p:nvSpPr>
        <p:spPr>
          <a:xfrm>
            <a:off x="863640" y="439560"/>
            <a:ext cx="928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1/ Introduction - 2/ EREMS presentation - 3/ Choice of FPGA target - 4/ Prototypes - 5/ Design - 6/ Performance - </a:t>
            </a:r>
            <a:r>
              <a:rPr b="1" lang="fr-FR" sz="1100" spc="-1" strike="noStrike">
                <a:solidFill>
                  <a:srgbClr val="ffffff"/>
                </a:solidFill>
                <a:latin typeface="Arial"/>
              </a:rPr>
              <a:t>7/ Programming</a:t>
            </a:r>
            <a:r>
              <a:rPr b="0" i="1" lang="fr-FR" sz="1100" spc="-1" strike="noStrike">
                <a:solidFill>
                  <a:srgbClr val="f2f2f2"/>
                </a:solidFill>
                <a:latin typeface="Arial"/>
              </a:rPr>
              <a:t> - 8/ 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9"/>
          <p:cNvSpPr/>
          <p:nvPr/>
        </p:nvSpPr>
        <p:spPr>
          <a:xfrm>
            <a:off x="214200" y="2050920"/>
            <a:ext cx="9684000" cy="38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ipment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TP FPG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grammer + (1 socket / packag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grammable FPG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●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back about Microsemi FP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24 OTP flight FPGA  program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.13% fail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Virage 10"/>
          <p:cNvSpPr/>
          <p:nvPr/>
        </p:nvSpPr>
        <p:spPr>
          <a:xfrm flipH="1" rot="10800000">
            <a:off x="1584720" y="4781520"/>
            <a:ext cx="428760" cy="511200"/>
          </a:xfrm>
          <a:custGeom>
            <a:avLst/>
            <a:gdLst/>
            <a:ahLst/>
            <a:rect l="l" t="t" r="r" b="b"/>
            <a:pathLst>
              <a:path w="428625" h="511175">
                <a:moveTo>
                  <a:pt x="0" y="511175"/>
                </a:moveTo>
                <a:lnTo>
                  <a:pt x="0" y="196353"/>
                </a:lnTo>
                <a:lnTo>
                  <a:pt x="0" y="196353"/>
                </a:lnTo>
                <a:arcTo wR="144721" hR="144721" stAng="10800000" swAng="5400000"/>
                <a:lnTo>
                  <a:pt x="325361" y="51632"/>
                </a:lnTo>
                <a:lnTo>
                  <a:pt x="325361" y="0"/>
                </a:lnTo>
                <a:lnTo>
                  <a:pt x="428625" y="105210"/>
                </a:lnTo>
                <a:lnTo>
                  <a:pt x="325361" y="210421"/>
                </a:lnTo>
                <a:lnTo>
                  <a:pt x="325361" y="158788"/>
                </a:lnTo>
                <a:lnTo>
                  <a:pt x="144721" y="158788"/>
                </a:lnTo>
                <a:lnTo>
                  <a:pt x="144721" y="158788"/>
                </a:lnTo>
                <a:arcTo wR="37565" hR="37565" stAng="-5400000" swAng="-5400000"/>
                <a:lnTo>
                  <a:pt x="107156" y="511175"/>
                </a:lnTo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5400000"/>
          </a:gradFill>
          <a:ln w="9360">
            <a:solidFill>
              <a:srgbClr val="2e2ec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11"/>
          <p:cNvSpPr/>
          <p:nvPr/>
        </p:nvSpPr>
        <p:spPr>
          <a:xfrm>
            <a:off x="1871640" y="4956120"/>
            <a:ext cx="2736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ur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lèche droite 12"/>
          <p:cNvSpPr/>
          <p:nvPr/>
        </p:nvSpPr>
        <p:spPr>
          <a:xfrm>
            <a:off x="3370320" y="2538360"/>
            <a:ext cx="347760" cy="162000"/>
          </a:xfrm>
          <a:prstGeom prst="righ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lèche droite 13"/>
          <p:cNvSpPr/>
          <p:nvPr/>
        </p:nvSpPr>
        <p:spPr>
          <a:xfrm>
            <a:off x="3370320" y="2771640"/>
            <a:ext cx="347760" cy="162000"/>
          </a:xfrm>
          <a:prstGeom prst="righ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MEN</dc:creator>
  <dc:description/>
  <dc:language>en-US</dc:language>
  <cp:lastModifiedBy>ludovicm</cp:lastModifiedBy>
  <cp:lastPrinted>2014-07-25T06:11:53Z</cp:lastPrinted>
  <dcterms:modified xsi:type="dcterms:W3CDTF">2014-08-03T13:17:25Z</dcterms:modified>
  <cp:revision>704</cp:revision>
  <dc:subject/>
  <dc:title>Présentation PowerPoint</dc:title>
</cp:coreProperties>
</file>